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1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904680" y="739800"/>
            <a:ext cx="492732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32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3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70A-EA19-4F7D-BE2A-EDAF18A4A7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70F5-F89E-436E-BA5E-E26F23BA69E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796-0546-478C-9542-260D0CD1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BDA-1599-4DE5-9FE6-9B91178D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CB4EF-867A-43EC-9567-C6FBBD54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CDD54-27AA-46A8-88A9-2085DF8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DD86E-6A18-4865-B681-EBAEEC49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D408E-6CB5-4EE1-9C90-D6B28FB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7E3C6-45FD-4C7E-853F-4BE2F5D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45618-422A-4D98-993E-DB6660D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9A2EC-597D-4622-A13A-CBBBB4ED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1BE8-BDAA-46CB-A2DB-CE3997F9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7CBC1-47AB-4247-88EF-8FE8A281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A4EDD-1C33-42BE-999B-4B32157A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13A-EF88-4150-AAB7-86EB45B1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071A6-427A-40A6-8AD3-A8F5D1C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9F436-A3B0-47DF-8B76-C3AED4A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EBD46-F139-4B9C-B1B1-99EF467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56B64-7A71-4832-88B4-E054A93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3DCD6-1569-4DA4-B99E-6678E581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B1BE-CCD9-4AA9-BB4C-47A315C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08AEF-6B39-45B8-9ED4-2D2AD22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1699B-F58D-46E8-BF4F-7905B71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95DD0-D437-4175-896C-A32AF0EA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57AA8-A340-48C5-A2F5-DA9FE7D3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70D-ADA6-4B57-ABC3-819EE9EB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B3679-7CF9-475F-84A3-E68622C6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0562-4623-4070-9724-532DD102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7C61-8390-4FAA-B044-1DB6FB0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E484-26CD-4B81-8192-695DBC79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EC21-0C88-451A-8DDB-FEBD051D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01F-6E97-4FCD-A9B4-9ECE34F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EF4C-17D1-4A99-A857-C48BF1A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614D-7341-4E67-8C91-7D5EDBC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550-7920-4558-8704-5BBA57DD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D20B-B4F6-4329-A468-6715E107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D153-DC39-4DEC-BF20-2484A615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0ADA-BE7D-49F6-BF47-80AC46E8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4324-756D-4C3C-930E-09939E58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CD3-144A-4D2F-9130-18E47FD1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F807-14AD-4ADF-AD12-F08CAC1D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21F0-8350-4CAC-B526-FA8CD0A6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CC97-1D3E-4886-A06C-5FB2674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10AB-B8EA-44B2-8343-460CC30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D921-B05D-4E5E-ABA2-F321471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F39-2DD1-452C-9E28-32D02AD4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C275-CA59-427F-9215-6220C3A2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19C3-CC1E-4EEA-A708-0882AF1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420C-FEB9-4FCA-8F2E-3680C656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4DB7-791D-428E-B7F2-A9B0C63F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AE99-CF38-4626-872E-DE33E6BC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E3C6-15BF-4515-9AB9-4C9B98DC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F6CE-6D5F-4D22-BE98-17C753F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AB4A-0BDB-4474-BEF9-5B04AA81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2B05-B78B-4EB8-884A-89FF31FB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18B1-4A11-4A48-908A-9797E79F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43E-6A40-4B7A-A5D9-EAF7337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FEDCC-04C6-4367-A4BF-93FB3BC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405D-A551-4740-AC66-4AE0F8AF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31E6-BDBC-4F24-ACF5-F7DF576F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6C87-3F24-4710-9BCF-72FD5739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A28F-DDF4-4437-AF5D-4ECB166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25FD-5E79-4297-B4E5-258DD33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82F9-38E8-4A4C-9374-CD16F41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2F9D-2B62-4C8B-B90E-5DA3C55E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5F9F-CE61-401D-A2B6-D0928B91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E2D20-E987-4A4C-B0B2-C8356280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8B0-DEBD-48C4-B5C0-60E041B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8528-F647-4F31-82D4-C80E47EF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AE2A-DB0C-4F29-A5F7-000D810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17EED-AEBC-41DD-8834-790BD9A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A4D7-227A-4562-B06F-86F46FC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DE91C-783F-4D06-A566-BE2BDCE3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CAE8E-3E38-48CA-8813-ABC483EC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55232-DAC9-4D11-9C9B-08F1F8F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C95E-49B7-4761-AB09-795FDAA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8085-80CB-431C-8B30-713137E6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18DB3-AC3A-4F0A-9166-7B825B73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002-3E6E-42DF-9A6E-47C5FA3B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95AC-110C-4778-8B9A-6A614008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AE1B-B400-4308-992A-68458D38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CB22-C01D-4539-BF9F-FC4BE38F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AE72-C22A-42C1-A3ED-3294862B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BABE-A796-4E5B-8DE8-FE2F5315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B080-862D-40EB-BFD8-4367385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63810-C0CB-440D-96BB-4585A22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75257-CDE0-4F20-8328-A878937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00FC5-D9F9-4341-87E0-8178304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9BB13-A41B-4370-A6B9-EDE9544F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673-D854-4F19-AB50-C4BE5A5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2A15F-CE2E-4275-9C21-C4526A65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659C-0EFB-496D-BA7A-6E003047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843CC-4CEF-4C28-9807-24948835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DE0FD-28C3-462F-B10A-61F266BC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BD37-0AA8-4AE8-BAE8-1C00A89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5484-4D1E-4D9A-9847-09805475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99AE-4656-45C1-AEA2-C459F69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C5865-A6BC-4C31-B7EF-64D30ACB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8FA9-221F-428A-A5B3-ADD1C4A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BB801-2D38-4F22-88E1-64723D2A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D8E-792E-4EFD-B281-451D4AE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71CA0-CCDD-4300-8AD9-C87012D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7D3B-D7FC-4BDE-AB69-F84455E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3F163-29B9-4171-943C-E130425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F58C4-40F7-48AB-A4D6-0358493F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AE73-8A38-4F6F-924D-12FC2B3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5365-8980-4F61-BBC6-241B3917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DAF17-73E2-4866-83D5-20BEBEB1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7374-559B-4C61-BD40-ACD0596D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F5D4E-C29D-46F4-99F5-47DB967A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50496-8218-409F-AFF1-FAEE362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031-1FDE-47BC-AA5C-1190DB9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4DB53-C21F-42E6-B32E-C01C7335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1089D-D5D5-4F62-83DE-FA3CC70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BA8D-994D-48DC-B952-1DA5AAB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7DA8-C1B9-4BB1-BB0E-9141FDA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1688-D328-49DB-8902-3E52B684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FB7D5-09A0-4BD6-B1BD-4FF7C739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BE45-F4C0-43D1-A757-0330B9FE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A656-4802-4332-B132-BFE1FA41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9DED4-831E-43AB-B4AB-A9A5C0D9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86EE7-D1A0-45D2-A3A1-B301BDDE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A1B-F949-41C9-80CE-104FA001A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Freeform 7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493" name="Freeform 7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95" name="Freeform 8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496" name="Freeform 8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98" name="Freeform 9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499" name="Freeform 9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01" name="Freeform 11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502" name="Freeform 11" descr=""/>
            <p:cNvPicPr/>
            <p:nvPr/>
          </p:nvPicPr>
          <p:blipFill>
            <a:blip r:embed="rId6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2312-70E1-4897-BE04-C6BA477282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13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42" name="Freeform 13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4" name="Freeform 12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45" name="Freeform 12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7" name="Freeform 11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48" name="Freeform 11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0" name="Oval 7"/>
          <p:cNvGrpSpPr/>
          <p:nvPr/>
        </p:nvGrpSpPr>
        <p:grpSpPr>
          <a:xfrm>
            <a:off x="603360" y="579600"/>
            <a:ext cx="7821360" cy="5814720"/>
            <a:chOff x="603360" y="579600"/>
            <a:chExt cx="7821360" cy="5814720"/>
          </a:xfrm>
        </p:grpSpPr>
        <p:pic>
          <p:nvPicPr>
            <p:cNvPr id="51" name="Oval 7" descr=""/>
            <p:cNvPicPr/>
            <p:nvPr/>
          </p:nvPicPr>
          <p:blipFill>
            <a:blip r:embed="rId6"/>
            <a:stretch/>
          </p:blipFill>
          <p:spPr>
            <a:xfrm>
              <a:off x="603360" y="579600"/>
              <a:ext cx="7821360" cy="58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62200" y="1441440"/>
              <a:ext cx="5510160" cy="40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3" name="Freeform 8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54" name="Freeform 8" descr=""/>
            <p:cNvPicPr/>
            <p:nvPr/>
          </p:nvPicPr>
          <p:blipFill>
            <a:blip r:embed="rId7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546-8268-46E8-9076-3C40D0213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reeform 6"/>
          <p:cNvGrpSpPr/>
          <p:nvPr/>
        </p:nvGrpSpPr>
        <p:grpSpPr>
          <a:xfrm>
            <a:off x="6480" y="-30240"/>
            <a:ext cx="3060720" cy="828720"/>
            <a:chOff x="6480" y="-30240"/>
            <a:chExt cx="3060720" cy="828720"/>
          </a:xfrm>
        </p:grpSpPr>
        <p:pic>
          <p:nvPicPr>
            <p:cNvPr id="98" name="Freeform 6" descr=""/>
            <p:cNvPicPr/>
            <p:nvPr/>
          </p:nvPicPr>
          <p:blipFill>
            <a:blip r:embed="rId3"/>
            <a:stretch/>
          </p:blipFill>
          <p:spPr>
            <a:xfrm>
              <a:off x="6480" y="-30240"/>
              <a:ext cx="306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4520" y="0"/>
              <a:ext cx="29307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0" name="Freeform 7"/>
          <p:cNvGrpSpPr/>
          <p:nvPr/>
        </p:nvGrpSpPr>
        <p:grpSpPr>
          <a:xfrm>
            <a:off x="-42840" y="103320"/>
            <a:ext cx="834840" cy="2079360"/>
            <a:chOff x="-42840" y="103320"/>
            <a:chExt cx="834840" cy="2079360"/>
          </a:xfrm>
        </p:grpSpPr>
        <p:pic>
          <p:nvPicPr>
            <p:cNvPr id="101" name="Freeform 7" descr=""/>
            <p:cNvPicPr/>
            <p:nvPr/>
          </p:nvPicPr>
          <p:blipFill>
            <a:blip r:embed="rId4"/>
            <a:stretch/>
          </p:blipFill>
          <p:spPr>
            <a:xfrm>
              <a:off x="-42840" y="103320"/>
              <a:ext cx="76068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-3600" y="146160"/>
              <a:ext cx="79560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3" name="Freeform 8"/>
          <p:cNvGrpSpPr/>
          <p:nvPr/>
        </p:nvGrpSpPr>
        <p:grpSpPr>
          <a:xfrm>
            <a:off x="6162840" y="-42840"/>
            <a:ext cx="2901960" cy="774720"/>
            <a:chOff x="6162840" y="-42840"/>
            <a:chExt cx="2901960" cy="774720"/>
          </a:xfrm>
        </p:grpSpPr>
        <p:pic>
          <p:nvPicPr>
            <p:cNvPr id="104" name="Freeform 8" descr=""/>
            <p:cNvPicPr/>
            <p:nvPr/>
          </p:nvPicPr>
          <p:blipFill>
            <a:blip r:embed="rId5"/>
            <a:stretch/>
          </p:blipFill>
          <p:spPr>
            <a:xfrm>
              <a:off x="6162840" y="-42840"/>
              <a:ext cx="290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51400" y="0"/>
              <a:ext cx="2775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6" name="Freeform 9"/>
          <p:cNvGrpSpPr/>
          <p:nvPr/>
        </p:nvGrpSpPr>
        <p:grpSpPr>
          <a:xfrm>
            <a:off x="8339040" y="79200"/>
            <a:ext cx="840960" cy="2073600"/>
            <a:chOff x="8339040" y="79200"/>
            <a:chExt cx="840960" cy="2073600"/>
          </a:xfrm>
        </p:grpSpPr>
        <p:pic>
          <p:nvPicPr>
            <p:cNvPr id="107" name="Freeform 9" descr=""/>
            <p:cNvPicPr/>
            <p:nvPr/>
          </p:nvPicPr>
          <p:blipFill>
            <a:blip r:embed="rId6"/>
            <a:stretch/>
          </p:blipFill>
          <p:spPr>
            <a:xfrm>
              <a:off x="8372520" y="79200"/>
              <a:ext cx="80748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339040" y="119160"/>
              <a:ext cx="8064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9" name="Freeform 10"/>
          <p:cNvGrpSpPr/>
          <p:nvPr/>
        </p:nvGrpSpPr>
        <p:grpSpPr>
          <a:xfrm>
            <a:off x="8418600" y="4784760"/>
            <a:ext cx="761400" cy="1933560"/>
            <a:chOff x="8418600" y="4784760"/>
            <a:chExt cx="761400" cy="1933560"/>
          </a:xfrm>
        </p:grpSpPr>
        <p:pic>
          <p:nvPicPr>
            <p:cNvPr id="110" name="Freeform 10" descr=""/>
            <p:cNvPicPr/>
            <p:nvPr/>
          </p:nvPicPr>
          <p:blipFill>
            <a:blip r:embed="rId7"/>
            <a:stretch/>
          </p:blipFill>
          <p:spPr>
            <a:xfrm>
              <a:off x="8432640" y="4784760"/>
              <a:ext cx="7473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10800000">
              <a:off x="8418600" y="4827600"/>
              <a:ext cx="7257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2" name="Freeform 11"/>
          <p:cNvGrpSpPr/>
          <p:nvPr/>
        </p:nvGrpSpPr>
        <p:grpSpPr>
          <a:xfrm>
            <a:off x="5894280" y="5962320"/>
            <a:ext cx="3157560" cy="919080"/>
            <a:chOff x="5894280" y="5962320"/>
            <a:chExt cx="3157560" cy="919080"/>
          </a:xfrm>
        </p:grpSpPr>
        <p:pic>
          <p:nvPicPr>
            <p:cNvPr id="113" name="Freeform 11" descr=""/>
            <p:cNvPicPr/>
            <p:nvPr/>
          </p:nvPicPr>
          <p:blipFill>
            <a:blip r:embed="rId8"/>
            <a:stretch/>
          </p:blipFill>
          <p:spPr>
            <a:xfrm>
              <a:off x="5894280" y="5994720"/>
              <a:ext cx="315756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0800000">
              <a:off x="5959440" y="5962320"/>
              <a:ext cx="30304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5" name="Freeform 12"/>
          <p:cNvGrpSpPr/>
          <p:nvPr/>
        </p:nvGrpSpPr>
        <p:grpSpPr>
          <a:xfrm>
            <a:off x="171360" y="6053040"/>
            <a:ext cx="3016440" cy="841320"/>
            <a:chOff x="171360" y="6053040"/>
            <a:chExt cx="3016440" cy="841320"/>
          </a:xfrm>
        </p:grpSpPr>
        <p:pic>
          <p:nvPicPr>
            <p:cNvPr id="116" name="Freeform 12" descr=""/>
            <p:cNvPicPr/>
            <p:nvPr/>
          </p:nvPicPr>
          <p:blipFill>
            <a:blip r:embed="rId9"/>
            <a:stretch/>
          </p:blipFill>
          <p:spPr>
            <a:xfrm>
              <a:off x="171360" y="6053040"/>
              <a:ext cx="301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0800000">
              <a:off x="236520" y="6066000"/>
              <a:ext cx="28908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8" name="Freeform 13"/>
          <p:cNvGrpSpPr/>
          <p:nvPr/>
        </p:nvGrpSpPr>
        <p:grpSpPr>
          <a:xfrm>
            <a:off x="-96840" y="4737240"/>
            <a:ext cx="748800" cy="2193840"/>
            <a:chOff x="-96840" y="4737240"/>
            <a:chExt cx="748800" cy="2193840"/>
          </a:xfrm>
        </p:grpSpPr>
        <p:pic>
          <p:nvPicPr>
            <p:cNvPr id="119" name="Freeform 13" descr=""/>
            <p:cNvPicPr/>
            <p:nvPr/>
          </p:nvPicPr>
          <p:blipFill>
            <a:blip r:embed="rId10"/>
            <a:stretch/>
          </p:blipFill>
          <p:spPr>
            <a:xfrm>
              <a:off x="-96840" y="4737240"/>
              <a:ext cx="699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10800000">
              <a:off x="-6120" y="4780080"/>
              <a:ext cx="658440" cy="20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741-1389-4057-A2C1-904B6A3430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Freeform 6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163" name="Freeform 6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65" name="Freeform 7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166" name="Freeform 7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68" name="Freeform 8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169" name="Freeform 8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71" name="Freeform 9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172" name="Freeform 9" descr=""/>
            <p:cNvPicPr/>
            <p:nvPr/>
          </p:nvPicPr>
          <p:blipFill>
            <a:blip r:embed="rId6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ADDD-DA74-4A7C-B41C-A8383FC03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Freeform 7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216" name="Freeform 7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18" name="Freeform 8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219" name="Freeform 8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21" name="Freeform 9"/>
          <p:cNvGrpSpPr/>
          <p:nvPr/>
        </p:nvGrpSpPr>
        <p:grpSpPr>
          <a:xfrm>
            <a:off x="-42840" y="5132520"/>
            <a:ext cx="927000" cy="1798560"/>
            <a:chOff x="-42840" y="5132520"/>
            <a:chExt cx="927000" cy="1798560"/>
          </a:xfrm>
        </p:grpSpPr>
        <p:pic>
          <p:nvPicPr>
            <p:cNvPr id="222" name="Freeform 9" descr=""/>
            <p:cNvPicPr/>
            <p:nvPr/>
          </p:nvPicPr>
          <p:blipFill>
            <a:blip r:embed="rId5"/>
            <a:stretch/>
          </p:blipFill>
          <p:spPr>
            <a:xfrm>
              <a:off x="-42840" y="5132520"/>
              <a:ext cx="927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0800000">
              <a:off x="0" y="5173560"/>
              <a:ext cx="851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24" name="Freeform 10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225" name="Freeform 10" descr=""/>
            <p:cNvPicPr/>
            <p:nvPr/>
          </p:nvPicPr>
          <p:blipFill>
            <a:blip r:embed="rId6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27" name="Freeform 11"/>
          <p:cNvGrpSpPr/>
          <p:nvPr/>
        </p:nvGrpSpPr>
        <p:grpSpPr>
          <a:xfrm>
            <a:off x="407880" y="5126040"/>
            <a:ext cx="8796600" cy="1774800"/>
            <a:chOff x="407880" y="5126040"/>
            <a:chExt cx="8796600" cy="1774800"/>
          </a:xfrm>
        </p:grpSpPr>
        <p:pic>
          <p:nvPicPr>
            <p:cNvPr id="228" name="Freeform 11" descr=""/>
            <p:cNvPicPr/>
            <p:nvPr/>
          </p:nvPicPr>
          <p:blipFill>
            <a:blip r:embed="rId7"/>
            <a:stretch/>
          </p:blipFill>
          <p:spPr>
            <a:xfrm>
              <a:off x="407880" y="5126040"/>
              <a:ext cx="879660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76280" y="5237280"/>
              <a:ext cx="86677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B8A0-7149-4A0B-B4EB-ED080DED14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Freeform 9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272" name="Freeform 9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74" name="Freeform 10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275" name="Freeform 10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77" name="Freeform 11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278" name="Freeform 11" descr=""/>
            <p:cNvPicPr/>
            <p:nvPr/>
          </p:nvPicPr>
          <p:blipFill>
            <a:blip r:embed="rId5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2B35-3B38-4BCB-8B87-4FDCD2302D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Freeform 5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322" name="Freeform 5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24" name="Freeform 6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325" name="Freeform 6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27" name="Freeform 7"/>
          <p:cNvGrpSpPr/>
          <p:nvPr/>
        </p:nvGrpSpPr>
        <p:grpSpPr>
          <a:xfrm>
            <a:off x="-42840" y="5132520"/>
            <a:ext cx="927000" cy="1798560"/>
            <a:chOff x="-42840" y="5132520"/>
            <a:chExt cx="927000" cy="1798560"/>
          </a:xfrm>
        </p:grpSpPr>
        <p:pic>
          <p:nvPicPr>
            <p:cNvPr id="328" name="Freeform 7" descr=""/>
            <p:cNvPicPr/>
            <p:nvPr/>
          </p:nvPicPr>
          <p:blipFill>
            <a:blip r:embed="rId5"/>
            <a:stretch/>
          </p:blipFill>
          <p:spPr>
            <a:xfrm>
              <a:off x="-42840" y="5132520"/>
              <a:ext cx="927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0800000">
              <a:off x="0" y="5173560"/>
              <a:ext cx="851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30" name="Freeform 8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331" name="Freeform 8" descr=""/>
            <p:cNvPicPr/>
            <p:nvPr/>
          </p:nvPicPr>
          <p:blipFill>
            <a:blip r:embed="rId6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33" name="Freeform 9"/>
          <p:cNvGrpSpPr/>
          <p:nvPr/>
        </p:nvGrpSpPr>
        <p:grpSpPr>
          <a:xfrm>
            <a:off x="407880" y="5126040"/>
            <a:ext cx="8796600" cy="1774800"/>
            <a:chOff x="407880" y="5126040"/>
            <a:chExt cx="8796600" cy="1774800"/>
          </a:xfrm>
        </p:grpSpPr>
        <p:pic>
          <p:nvPicPr>
            <p:cNvPr id="334" name="Freeform 9" descr=""/>
            <p:cNvPicPr/>
            <p:nvPr/>
          </p:nvPicPr>
          <p:blipFill>
            <a:blip r:embed="rId7"/>
            <a:stretch/>
          </p:blipFill>
          <p:spPr>
            <a:xfrm>
              <a:off x="407880" y="5126040"/>
              <a:ext cx="879660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76280" y="5237280"/>
              <a:ext cx="86677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BB15-5719-4B19-9EA3-A41FFFDC4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Freeform 4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378" name="Freeform 4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80" name="Freeform 5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381" name="Freeform 5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83" name="Freeform 7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384" name="Freeform 7" descr=""/>
            <p:cNvPicPr/>
            <p:nvPr/>
          </p:nvPicPr>
          <p:blipFill>
            <a:blip r:embed="rId5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275-A278-484F-8864-188E4D3D12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Freeform 7"/>
          <p:cNvGrpSpPr/>
          <p:nvPr/>
        </p:nvGrpSpPr>
        <p:grpSpPr>
          <a:xfrm>
            <a:off x="6480" y="-30240"/>
            <a:ext cx="3060720" cy="828720"/>
            <a:chOff x="6480" y="-30240"/>
            <a:chExt cx="3060720" cy="828720"/>
          </a:xfrm>
        </p:grpSpPr>
        <p:pic>
          <p:nvPicPr>
            <p:cNvPr id="428" name="Freeform 7" descr=""/>
            <p:cNvPicPr/>
            <p:nvPr/>
          </p:nvPicPr>
          <p:blipFill>
            <a:blip r:embed="rId3"/>
            <a:stretch/>
          </p:blipFill>
          <p:spPr>
            <a:xfrm>
              <a:off x="6480" y="-30240"/>
              <a:ext cx="306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4520" y="0"/>
              <a:ext cx="29307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30" name="Freeform 8"/>
          <p:cNvGrpSpPr/>
          <p:nvPr/>
        </p:nvGrpSpPr>
        <p:grpSpPr>
          <a:xfrm>
            <a:off x="-42840" y="103320"/>
            <a:ext cx="834840" cy="2079360"/>
            <a:chOff x="-42840" y="103320"/>
            <a:chExt cx="834840" cy="2079360"/>
          </a:xfrm>
        </p:grpSpPr>
        <p:pic>
          <p:nvPicPr>
            <p:cNvPr id="431" name="Freeform 8" descr=""/>
            <p:cNvPicPr/>
            <p:nvPr/>
          </p:nvPicPr>
          <p:blipFill>
            <a:blip r:embed="rId4"/>
            <a:stretch/>
          </p:blipFill>
          <p:spPr>
            <a:xfrm>
              <a:off x="-42840" y="103320"/>
              <a:ext cx="76068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-3600" y="146160"/>
              <a:ext cx="79560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33" name="Freeform 9"/>
          <p:cNvGrpSpPr/>
          <p:nvPr/>
        </p:nvGrpSpPr>
        <p:grpSpPr>
          <a:xfrm>
            <a:off x="6162840" y="-42840"/>
            <a:ext cx="2901960" cy="774720"/>
            <a:chOff x="6162840" y="-42840"/>
            <a:chExt cx="2901960" cy="774720"/>
          </a:xfrm>
        </p:grpSpPr>
        <p:pic>
          <p:nvPicPr>
            <p:cNvPr id="434" name="Freeform 9" descr=""/>
            <p:cNvPicPr/>
            <p:nvPr/>
          </p:nvPicPr>
          <p:blipFill>
            <a:blip r:embed="rId5"/>
            <a:stretch/>
          </p:blipFill>
          <p:spPr>
            <a:xfrm>
              <a:off x="6162840" y="-42840"/>
              <a:ext cx="290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251400" y="0"/>
              <a:ext cx="2775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36" name="Freeform 10"/>
          <p:cNvGrpSpPr/>
          <p:nvPr/>
        </p:nvGrpSpPr>
        <p:grpSpPr>
          <a:xfrm>
            <a:off x="8339040" y="79200"/>
            <a:ext cx="840960" cy="2073600"/>
            <a:chOff x="8339040" y="79200"/>
            <a:chExt cx="840960" cy="2073600"/>
          </a:xfrm>
        </p:grpSpPr>
        <p:pic>
          <p:nvPicPr>
            <p:cNvPr id="437" name="Freeform 10" descr=""/>
            <p:cNvPicPr/>
            <p:nvPr/>
          </p:nvPicPr>
          <p:blipFill>
            <a:blip r:embed="rId6"/>
            <a:stretch/>
          </p:blipFill>
          <p:spPr>
            <a:xfrm>
              <a:off x="8372520" y="79200"/>
              <a:ext cx="80748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8339040" y="119160"/>
              <a:ext cx="8064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39" name="Freeform 11"/>
          <p:cNvGrpSpPr/>
          <p:nvPr/>
        </p:nvGrpSpPr>
        <p:grpSpPr>
          <a:xfrm>
            <a:off x="8418600" y="4784760"/>
            <a:ext cx="761400" cy="1933560"/>
            <a:chOff x="8418600" y="4784760"/>
            <a:chExt cx="761400" cy="1933560"/>
          </a:xfrm>
        </p:grpSpPr>
        <p:pic>
          <p:nvPicPr>
            <p:cNvPr id="440" name="Freeform 11" descr=""/>
            <p:cNvPicPr/>
            <p:nvPr/>
          </p:nvPicPr>
          <p:blipFill>
            <a:blip r:embed="rId7"/>
            <a:stretch/>
          </p:blipFill>
          <p:spPr>
            <a:xfrm>
              <a:off x="8432640" y="4784760"/>
              <a:ext cx="7473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10800000">
              <a:off x="8418600" y="4827600"/>
              <a:ext cx="7257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42" name="Freeform 12"/>
          <p:cNvGrpSpPr/>
          <p:nvPr/>
        </p:nvGrpSpPr>
        <p:grpSpPr>
          <a:xfrm>
            <a:off x="5894280" y="5962320"/>
            <a:ext cx="3157560" cy="919080"/>
            <a:chOff x="5894280" y="5962320"/>
            <a:chExt cx="3157560" cy="919080"/>
          </a:xfrm>
        </p:grpSpPr>
        <p:pic>
          <p:nvPicPr>
            <p:cNvPr id="443" name="Freeform 12" descr=""/>
            <p:cNvPicPr/>
            <p:nvPr/>
          </p:nvPicPr>
          <p:blipFill>
            <a:blip r:embed="rId8"/>
            <a:stretch/>
          </p:blipFill>
          <p:spPr>
            <a:xfrm>
              <a:off x="5894280" y="5994720"/>
              <a:ext cx="315756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 rot="10800000">
              <a:off x="5959440" y="5962320"/>
              <a:ext cx="30304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45" name="Freeform 13"/>
          <p:cNvGrpSpPr/>
          <p:nvPr/>
        </p:nvGrpSpPr>
        <p:grpSpPr>
          <a:xfrm>
            <a:off x="171360" y="6053040"/>
            <a:ext cx="3016440" cy="841320"/>
            <a:chOff x="171360" y="6053040"/>
            <a:chExt cx="3016440" cy="841320"/>
          </a:xfrm>
        </p:grpSpPr>
        <p:pic>
          <p:nvPicPr>
            <p:cNvPr id="446" name="Freeform 13" descr=""/>
            <p:cNvPicPr/>
            <p:nvPr/>
          </p:nvPicPr>
          <p:blipFill>
            <a:blip r:embed="rId9"/>
            <a:stretch/>
          </p:blipFill>
          <p:spPr>
            <a:xfrm>
              <a:off x="171360" y="6053040"/>
              <a:ext cx="301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10800000">
              <a:off x="236520" y="6066000"/>
              <a:ext cx="28908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48" name="Freeform 14"/>
          <p:cNvGrpSpPr/>
          <p:nvPr/>
        </p:nvGrpSpPr>
        <p:grpSpPr>
          <a:xfrm>
            <a:off x="-96840" y="4737240"/>
            <a:ext cx="748800" cy="2193840"/>
            <a:chOff x="-96840" y="4737240"/>
            <a:chExt cx="748800" cy="2193840"/>
          </a:xfrm>
        </p:grpSpPr>
        <p:pic>
          <p:nvPicPr>
            <p:cNvPr id="449" name="Freeform 14" descr=""/>
            <p:cNvPicPr/>
            <p:nvPr/>
          </p:nvPicPr>
          <p:blipFill>
            <a:blip r:embed="rId10"/>
            <a:stretch/>
          </p:blipFill>
          <p:spPr>
            <a:xfrm>
              <a:off x="-96840" y="4737240"/>
              <a:ext cx="699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 rot="10800000">
              <a:off x="-6120" y="4780080"/>
              <a:ext cx="658440" cy="20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C2D-D854-4EFD-AB06-343849BDF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1" descr=""/>
          <p:cNvPicPr/>
          <p:nvPr/>
        </p:nvPicPr>
        <p:blipFill>
          <a:blip r:embed="rId2"/>
          <a:stretch/>
        </p:blipFill>
        <p:spPr>
          <a:xfrm>
            <a:off x="384120" y="133200"/>
            <a:ext cx="8674200" cy="21765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54" name="Рисунок 3" descr="http://www.medicus.ru/images/upload/42466.jpg"/>
          <p:cNvPicPr/>
          <p:nvPr/>
        </p:nvPicPr>
        <p:blipFill>
          <a:blip r:embed="rId3"/>
          <a:stretch/>
        </p:blipFill>
        <p:spPr>
          <a:xfrm>
            <a:off x="3357720" y="2643120"/>
            <a:ext cx="25002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339400" cy="1323720"/>
          </a:xfrm>
          <a:prstGeom prst="rect">
            <a:avLst/>
          </a:prstGeom>
          <a:ln w="0">
            <a:noFill/>
          </a:ln>
        </p:spPr>
      </p:pic>
      <p:pic>
        <p:nvPicPr>
          <p:cNvPr id="574" name="Содержимое 3" descr="32,74 КБ"/>
          <p:cNvPicPr/>
          <p:nvPr/>
        </p:nvPicPr>
        <p:blipFill>
          <a:blip r:embed="rId3"/>
          <a:stretch/>
        </p:blipFill>
        <p:spPr>
          <a:xfrm>
            <a:off x="165240" y="1792440"/>
            <a:ext cx="8680320" cy="4760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7168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«…тот, кто пьян, не владеет собой и не годится для воспроизведения потомства, ибо всё отпечатлевается в душе и теле ребёнка и дети могут родиться плохими во всех отношениях»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Franklin Gothic Book"/>
              </a:rPr>
              <a:t>Платон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Заголовок 4" descr=""/>
          <p:cNvPicPr/>
          <p:nvPr/>
        </p:nvPicPr>
        <p:blipFill>
          <a:blip r:embed="rId2"/>
          <a:stretch/>
        </p:blipFill>
        <p:spPr>
          <a:xfrm>
            <a:off x="682560" y="2236680"/>
            <a:ext cx="7785000" cy="1481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randomBa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1324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456840" y="1600200"/>
            <a:ext cx="8472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Гибель двух – трёх клеток в начале развития зародыша может обернуться в дальнейшем недоразвитием, а то и отсутствием какого-нибудь органа.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Отклонения от нормального развития плода в случае, если женщина даже очень умеренно употребляет спиртное во время беременности, имеют место обязательно. Иногда эти отклонения приводят к отсутствию жизненно важных органов, тогда плод погибает (выкидыш) или рождается нежизнеспособный ребёнок.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indent="304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1" descr=""/>
          <p:cNvPicPr/>
          <p:nvPr/>
        </p:nvPicPr>
        <p:blipFill>
          <a:blip r:embed="rId2"/>
          <a:stretch/>
        </p:blipFill>
        <p:spPr>
          <a:xfrm>
            <a:off x="3529080" y="353880"/>
            <a:ext cx="5261040" cy="60105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3"/>
          <a:stretch/>
        </p:blipFill>
        <p:spPr>
          <a:xfrm>
            <a:off x="378000" y="549360"/>
            <a:ext cx="312732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309160" cy="13222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285840" y="1500120"/>
            <a:ext cx="840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Косоглазие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Врождённая глухота, (глухонемые дети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Резкая асимметрия и другие дефекты лица (лицевая дисморфия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Врождённые пороки сердц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Уменьшены размеры головы и объёма черепной коробки, а следовательно, и уменьшенный объём головного мозга (микроцефалия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Умственная отсталость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Врождённые психические болезн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Недоразвитие (уменьшенные размеры) конечностей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Плохое срастание черепных костей (кости черепа нередко остаются настолько тонкими, что могут быть проломлены даже при небольшом механическом воздействии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2"/>
          <a:stretch/>
        </p:blipFill>
        <p:spPr>
          <a:xfrm>
            <a:off x="311040" y="133200"/>
            <a:ext cx="8551800" cy="1324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"/>
          <p:cNvPicPr/>
          <p:nvPr/>
        </p:nvPicPr>
        <p:blipFill>
          <a:blip r:embed="rId3"/>
          <a:stretch/>
        </p:blipFill>
        <p:spPr>
          <a:xfrm>
            <a:off x="2714760" y="2585880"/>
            <a:ext cx="371448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Заголовок 1" descr=""/>
          <p:cNvPicPr/>
          <p:nvPr/>
        </p:nvPicPr>
        <p:blipFill>
          <a:blip r:embed="rId2"/>
          <a:stretch/>
        </p:blipFill>
        <p:spPr>
          <a:xfrm>
            <a:off x="-433440" y="353880"/>
            <a:ext cx="5011920" cy="1150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3"/>
          <a:stretch/>
        </p:blipFill>
        <p:spPr>
          <a:xfrm>
            <a:off x="4143240" y="571680"/>
            <a:ext cx="4500720" cy="567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2"/>
          <a:stretch/>
        </p:blipFill>
        <p:spPr>
          <a:xfrm>
            <a:off x="1928880" y="654120"/>
            <a:ext cx="5214960" cy="5632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http://www.sbnt.ru/files/plakat-Alcohol_Razrushaet_Mozg.jpg"/>
          <p:cNvPicPr/>
          <p:nvPr/>
        </p:nvPicPr>
        <p:blipFill>
          <a:blip r:embed="rId3"/>
          <a:stretch/>
        </p:blipFill>
        <p:spPr>
          <a:xfrm>
            <a:off x="-71280" y="-71280"/>
            <a:ext cx="921528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Заголовок 1" descr=""/>
          <p:cNvPicPr/>
          <p:nvPr/>
        </p:nvPicPr>
        <p:blipFill>
          <a:blip r:embed="rId2"/>
          <a:stretch/>
        </p:blipFill>
        <p:spPr>
          <a:xfrm>
            <a:off x="420840" y="285840"/>
            <a:ext cx="8242200" cy="1323720"/>
          </a:xfrm>
          <a:prstGeom prst="rect">
            <a:avLst/>
          </a:prstGeom>
          <a:ln w="0">
            <a:noFill/>
          </a:ln>
        </p:spPr>
      </p:pic>
      <p:pic>
        <p:nvPicPr>
          <p:cNvPr id="571" name="Содержимое 3" descr="16,01 КБ"/>
          <p:cNvPicPr/>
          <p:nvPr/>
        </p:nvPicPr>
        <p:blipFill>
          <a:blip r:embed="rId3"/>
          <a:stretch/>
        </p:blipFill>
        <p:spPr>
          <a:xfrm>
            <a:off x="5429160" y="3000240"/>
            <a:ext cx="2603520" cy="1543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http://bolinet.com.ua/UserFiles/image/alco.jpg"/>
          <p:cNvPicPr/>
          <p:nvPr/>
        </p:nvPicPr>
        <p:blipFill>
          <a:blip r:embed="rId4"/>
          <a:stretch/>
        </p:blipFill>
        <p:spPr>
          <a:xfrm>
            <a:off x="357120" y="21430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7:25:38Z</dcterms:created>
  <dc:creator>Maksak</dc:creator>
  <dc:description/>
  <dc:language>en-US</dc:language>
  <cp:lastModifiedBy>Vlad</cp:lastModifiedBy>
  <dcterms:modified xsi:type="dcterms:W3CDTF">2011-05-17T05:32:55Z</dcterms:modified>
  <cp:revision>61</cp:revision>
  <dc:subject/>
  <dc:title>Развитие организма и окружающая среда</dc:title>
</cp:coreProperties>
</file>